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6A8-0DA3-40F8-AC09-585A52CE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594-CBE7-42C1-9650-2F66C1FC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B55-FD50-4747-BAB0-B84E4ACA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711-9773-4FB6-899C-91665B9B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8EA-1C34-453B-9D93-D35DB305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72D-C468-47EF-8FF8-D230E60A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04B-F662-4336-A884-171923BD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02E-2B49-472E-BF5F-E27B4F18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C7F-C897-42C9-B7AF-971C0B99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C2C-5593-4ECB-BBEA-061D9066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C95-2EF6-412C-B71D-E29035D6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A0D-47FD-4774-A226-993B3059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7C14-5852-4B8E-9B11-45FA288B4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447560"/>
            <a:ext cx="8153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mmer School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rsession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istrict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16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362124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ncy.robinson @ lausd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23) 278-39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3429000"/>
            <a:ext cx="36021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July 6 -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July 6 -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July 6 – August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30639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http://summer.lasud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il 2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window cl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applications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l o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76920" y="3505320"/>
            <a:ext cx="385596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46274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95680" y="2286000"/>
            <a:ext cx="35053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:1 - 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:1 - Middle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:1 -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33:1 –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otal of 4 classes pe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53120" y="3200400"/>
            <a:ext cx="23493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IS Eligibility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SUMMER-ELA-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SUMMER-ELD-R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45200" y="3200400"/>
            <a:ext cx="23353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&amp; High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ian position eli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dial overtime eli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-hour Assistant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hours Tran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plann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flipH="1">
            <a:off x="5714640" y="2819520"/>
            <a:ext cx="2841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434340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– 4630.0  Administ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– 4627.0  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– 4628.0 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– 4629.0 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43400" y="3276720"/>
            <a:ext cx="37926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9:13:10Z</dcterms:created>
  <dc:creator>Nancy Robinson</dc:creator>
  <dc:description/>
  <dc:language>en-US</dc:language>
  <cp:lastModifiedBy>Nancy Robinson</cp:lastModifiedBy>
  <dcterms:modified xsi:type="dcterms:W3CDTF">2009-04-15T21:44:38Z</dcterms:modified>
  <cp:revision>5</cp:revision>
  <dc:subject/>
  <dc:title>Summer School  Intersession 2009</dc:title>
</cp:coreProperties>
</file>